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F0CF0-AE99-4297-8EA2-9B9E4A2D9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530C1-020B-48D6-B3B4-CB2D8E53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225B3-DD55-4007-BB7C-96EFF58A9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5D7BC-59D7-4797-B87A-806FA790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801A-FED0-4D2C-887E-76FA0492E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8031-A887-4647-A621-9BEC9706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D9E1-739B-4D03-A3B4-F590F0B8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DB08-6412-4176-9721-9B22D37B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054B-E824-444C-BBD5-B3A6DC58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EE56-16EF-4981-AB3B-9D13B59E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1081-3054-4E2E-B7F9-44124C21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12CD1-B245-4DF4-B79C-DED741AD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41A2-D1D8-4441-9BB7-03B54F69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E799-5B40-4878-A621-B903764B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91AA-ED8A-4B8B-8CF4-05D8561A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21FD-4EF5-4BD7-8406-92154083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D69C-960A-410D-85E7-879E3D478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97FAC-A6E4-42CE-8012-FC7D3768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462D7-17BF-43B1-8DF7-8758919D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A97C7-0733-49AF-8F87-631354DB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F8CF9-6FD4-4F51-B358-45252596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E3AB8-FC67-4668-8897-D83AC0F6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5EAC2-61C3-4963-8B2A-4DA3EA41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75A2B-CECC-4AE2-A855-8183F71D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C46F-0473-42BA-BAED-ADFBE0DB483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85BC-7F67-4F78-A932-8DAE090CE24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TajMahalbyAmalMongia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uz.wikipedia.org/w/index.php?title=Toj_Mahal&amp;action=edit&amp;redlink=1" TargetMode="External"/><Relationship Id="rId4" Type="http://schemas.openxmlformats.org/officeDocument/2006/relationships/hyperlink" Target="http://uz.wikipedia.org/w/index.php?title=Toj_Mahal&amp;action=edit&amp;redlink=1" TargetMode="External"/><Relationship Id="rId5" Type="http://schemas.openxmlformats.org/officeDocument/2006/relationships/hyperlink" Target="http://uz.wikipedia.org/w/index.php?title=Toj_Mahal&amp;action=edit&amp;redlink=1" TargetMode="External"/><Relationship Id="rId6" Type="http://schemas.openxmlformats.org/officeDocument/2006/relationships/hyperlink" Target="http://uz.wikipedia.org/w/index.php?title=Agra&amp;action=edit&amp;redlink=1" TargetMode="External"/><Relationship Id="rId7" Type="http://schemas.openxmlformats.org/officeDocument/2006/relationships/hyperlink" Target="http://uz.wikipedia.org/wiki/Hindiston" TargetMode="Externa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Paris_06_Eiffelturm_4828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uz.wikipedia.org/wiki/Eyfel_minorasi" TargetMode="External"/><Relationship Id="rId4" Type="http://schemas.openxmlformats.org/officeDocument/2006/relationships/hyperlink" Target="http://uz.wikipedia.org/wiki/Eyfel_minorasi" TargetMode="External"/><Relationship Id="rId5" Type="http://schemas.openxmlformats.org/officeDocument/2006/relationships/hyperlink" Target="http://uz.wikipedia.org/wiki/Eyfel_minorasi" TargetMode="External"/><Relationship Id="rId6" Type="http://schemas.openxmlformats.org/officeDocument/2006/relationships/hyperlink" Target="http://uz.wikipedia.org/wiki/Parij" TargetMode="Externa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El_Castillo,_Chich&#233;n_Itz&#225;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uz.wikipedia.org/w/index.php?title=Chichen_Itsa&amp;action=edit&amp;redlink=1" TargetMode="External"/><Relationship Id="rId4" Type="http://schemas.openxmlformats.org/officeDocument/2006/relationships/hyperlink" Target="http://uz.wikipedia.org/w/index.php?title=Chichen_Itsa&amp;action=edit&amp;redlink=1" TargetMode="External"/><Relationship Id="rId5" Type="http://schemas.openxmlformats.org/officeDocument/2006/relationships/hyperlink" Target="http://uz.wikipedia.org/w/index.php?title=Chichen_Itsa&amp;action=edit&amp;redlink=1" TargetMode="External"/><Relationship Id="rId6" Type="http://schemas.openxmlformats.org/officeDocument/2006/relationships/hyperlink" Target="http://uz.wikipedia.org/w/index.php?title=Yukatan&amp;action=edit&amp;redlink=1" TargetMode="External"/><Relationship Id="rId7" Type="http://schemas.openxmlformats.org/officeDocument/2006/relationships/hyperlink" Target="http://uz.wikipedia.org/wiki/Meksika" TargetMode="Externa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CorcovadofotoRJ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uz.wikipedia.org/w/index.php?title=Isoning_haykali&amp;action=edit&amp;redlink=1" TargetMode="External"/><Relationship Id="rId4" Type="http://schemas.openxmlformats.org/officeDocument/2006/relationships/hyperlink" Target="http://uz.wikipedia.org/w/index.php?title=Isoning_haykali&amp;action=edit&amp;redlink=1" TargetMode="External"/><Relationship Id="rId5" Type="http://schemas.openxmlformats.org/officeDocument/2006/relationships/hyperlink" Target="http://uz.wikipedia.org/w/index.php?title=Isoning_haykali&amp;action=edit&amp;redlink=1" TargetMode="External"/><Relationship Id="rId6" Type="http://schemas.openxmlformats.org/officeDocument/2006/relationships/hyperlink" Target="http://uz.wikipedia.org/w/index.php?title=Rio_de_Janeyro&amp;action=edit&amp;redlink=1" TargetMode="External"/><Relationship Id="rId7" Type="http://schemas.openxmlformats.org/officeDocument/2006/relationships/hyperlink" Target="http://uz.wikipedia.org/w/index.php?title=Rio_de_Janeyro&amp;action=edit&amp;redlink=1" TargetMode="External"/><Relationship Id="rId8" Type="http://schemas.openxmlformats.org/officeDocument/2006/relationships/hyperlink" Target="http://uz.wikipedia.org/w/index.php?title=Rio_de_Janeyro&amp;action=edit&amp;redlink=1" TargetMode="External"/><Relationship Id="rId9" Type="http://schemas.openxmlformats.org/officeDocument/2006/relationships/hyperlink" Target="http://uz.wikipedia.org/w/index.php?title=Rio_de_Janeyro&amp;action=edit&amp;redlink=1" TargetMode="External"/><Relationship Id="rId10" Type="http://schemas.openxmlformats.org/officeDocument/2006/relationships/hyperlink" Target="http://uz.wikipedia.org/w/index.php?title=Rio_de_Janeyro&amp;action=edit&amp;redlink=1" TargetMode="External"/><Relationship Id="rId11" Type="http://schemas.openxmlformats.org/officeDocument/2006/relationships/hyperlink" Target="http://uz.wikipedia.org/wiki/Braziliya" TargetMode="External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Colosseum_in_Rome,_Italy_-_April_2007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uz.wikipedia.org/wiki/Kolizey" TargetMode="External"/><Relationship Id="rId4" Type="http://schemas.openxmlformats.org/officeDocument/2006/relationships/hyperlink" Target="http://uz.wikipedia.org/wiki/Rim" TargetMode="External"/><Relationship Id="rId5" Type="http://schemas.openxmlformats.org/officeDocument/2006/relationships/hyperlink" Target="http://uz.wikipedia.org/wiki/Italiya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GreatWallNearBeijingWinter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uz.wikipedia.org/w/index.php?title=Buyuk_Xitoy_devori&amp;action=edit&amp;redlink=1" TargetMode="External"/><Relationship Id="rId4" Type="http://schemas.openxmlformats.org/officeDocument/2006/relationships/hyperlink" Target="http://uz.wikipedia.org/w/index.php?title=Buyuk_Xitoy_devori&amp;action=edit&amp;redlink=1" TargetMode="External"/><Relationship Id="rId5" Type="http://schemas.openxmlformats.org/officeDocument/2006/relationships/hyperlink" Target="http://uz.wikipedia.org/w/index.php?title=Buyuk_Xitoy_devori&amp;action=edit&amp;redlink=1" TargetMode="External"/><Relationship Id="rId6" Type="http://schemas.openxmlformats.org/officeDocument/2006/relationships/hyperlink" Target="http://uz.wikipedia.org/w/index.php?title=Buyuk_Xitoy_devori&amp;action=edit&amp;redlink=1" TargetMode="External"/><Relationship Id="rId7" Type="http://schemas.openxmlformats.org/officeDocument/2006/relationships/hyperlink" Target="http://uz.wikipedia.org/w/index.php?title=Buyuk_Xitoy_devori&amp;action=edit&amp;redlink=1" TargetMode="External"/><Relationship Id="rId8" Type="http://schemas.openxmlformats.org/officeDocument/2006/relationships/hyperlink" Target="http://uz.wikipedia.org/wiki/Xitoy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Peru_Machu_Picchu_Sunrise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uz.wikipedia.org/w/index.php?title=Machu_Pikchu&amp;action=edit&amp;redlink=1" TargetMode="External"/><Relationship Id="rId4" Type="http://schemas.openxmlformats.org/officeDocument/2006/relationships/hyperlink" Target="http://uz.wikipedia.org/w/index.php?title=Machu_Pikchu&amp;action=edit&amp;redlink=1" TargetMode="External"/><Relationship Id="rId5" Type="http://schemas.openxmlformats.org/officeDocument/2006/relationships/hyperlink" Target="http://uz.wikipedia.org/w/index.php?title=Machu_Pikchu&amp;action=edit&amp;redlink=1" TargetMode="External"/><Relationship Id="rId6" Type="http://schemas.openxmlformats.org/officeDocument/2006/relationships/hyperlink" Target="http://uz.wikipedia.org/wiki/Peru" TargetMode="Externa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Petra_Jordan_BW_21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uz.wikipedia.org/w/index.php?title=Petra&amp;action=edit&amp;redlink=1" TargetMode="External"/><Relationship Id="rId4" Type="http://schemas.openxmlformats.org/officeDocument/2006/relationships/hyperlink" Target="http://uz.wikipedia.org/wiki/Iordaniya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333360"/>
            <a:ext cx="8820000" cy="13669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`ZBEKISTON RESPUBLIKASI OLIY VA O`RTA MAXSUS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`LIM VAZIRLIG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SHKENT DAVLAT IQTISODIYOT UNIVERSITE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1700280"/>
            <a:ext cx="6084720" cy="24494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afedra: “Falsaf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n: “Estetika, etika, mantiq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221000"/>
            <a:ext cx="8604360" cy="7192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VZU: Estetikaning tadqiqot doirasi, axloqning kelib chiqis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4941720"/>
            <a:ext cx="7093080" cy="19162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jardi: IIT – 51 guruh talabasi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madiyorov Rust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shirdi: kt o`qituv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idov Aslid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95280" y="1484280"/>
            <a:ext cx="8748720" cy="24494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бдулла Авлоний «Туркий гулистон ёхуд ахлоқ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рисоласини шундай бошлайди: «Ахлоқ инсонлар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яхшилик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чақиргувчи, ёмонликдан қайтаргув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бир илмдур. Яхши хулқларнинг яхшилигини, ём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хулқларнинг ёмонлигин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далил ва мисоллар ила баё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қиладурғон китобни ахлоқ дейилур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620640"/>
            <a:ext cx="8209080" cy="647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Фитратнинг фикрича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TajMahalbyAmalMongi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4076640"/>
            <a:ext cx="4680000" cy="2781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11280" y="4365720"/>
            <a:ext cx="3097080" cy="21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Toj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Mah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Agr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Hindis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24000" y="1413000"/>
            <a:ext cx="4752720" cy="5111640"/>
          </a:xfrm>
          <a:custGeom>
            <a:avLst/>
            <a:gdLst>
              <a:gd name="textAreaLeft" fmla="*/ 231840 w 4752720"/>
              <a:gd name="textAreaRight" fmla="*/ 4520880 w 4752720"/>
              <a:gd name="textAreaTop" fmla="*/ 231840 h 5111640"/>
              <a:gd name="textAreaBottom" fmla="*/ 4879800 h 5111640"/>
            </a:gdLst>
            <a:ahLst/>
            <a:rect l="textAreaLeft" t="textAreaTop" r="textAreaRight" b="textAreaBottom"/>
            <a:pathLst>
              <a:path w="21600" h="23231">
                <a:moveTo>
                  <a:pt x="3600" y="0"/>
                </a:moveTo>
                <a:arcTo wR="3600" hR="3600" stAng="16200000" swAng="-5400000"/>
                <a:lnTo>
                  <a:pt x="0" y="19631"/>
                </a:lnTo>
                <a:arcTo wR="3600" hR="3600" stAng="10800000" swAng="-5400000"/>
                <a:lnTo>
                  <a:pt x="18000" y="232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«Икки нарса ҳақида қанч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ўп, қанча узоқ ўйлаган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сари қалбинг тобора янг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тобора кучайиб борув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ҳайрат в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ихлос билан тўли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тошаверади, булар – бош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устидаг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юлдузли осм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ва менинг ботинимд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ий қонун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549360"/>
            <a:ext cx="8280360" cy="71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ант айтадики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Paris 06 Eiffelturm 482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1700280"/>
            <a:ext cx="3456000" cy="3673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364000" y="5589720"/>
            <a:ext cx="3456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Eyfel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minor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Parij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Frans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1484280"/>
            <a:ext cx="8748720" cy="2521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Бу дунё кураш майдонидир. Бу майдоннин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қуроли соғлом жисму тан, ақл ва ахлоқдир. Ле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на шу қурол-аслаҳамиз синиб, занг босиб, чири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етган сари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ундай қуроллар билан бу дунёда бизга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ода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а на роҳат бор...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620640"/>
            <a:ext cx="8209080" cy="720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Ҳегель таърифлай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Angkor wat temple.jpg"/>
          <p:cNvPicPr/>
          <p:nvPr/>
        </p:nvPicPr>
        <p:blipFill>
          <a:blip r:embed="rId1"/>
          <a:stretch/>
        </p:blipFill>
        <p:spPr>
          <a:xfrm>
            <a:off x="468360" y="4221000"/>
            <a:ext cx="4174920" cy="2303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932360" y="4365720"/>
            <a:ext cx="3240000" cy="21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Angk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Angko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Kambo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549360"/>
            <a:ext cx="8567640" cy="31669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etikaning falsafiy  moxiy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xloq xaqida asosiy tushuncha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llomalarning bu fanga qo`shgan xissas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63640" y="3933720"/>
            <a:ext cx="5616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1628640"/>
            <a:ext cx="8820000" cy="23767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Фалсафани азим дарахтга, чинорга қиё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қилсак, унинг илдизи табиат ҳақидаги таълимотла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пояси – мантиқ,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 меваси эса – этикадир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арҳақиқа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илим – ақл булоғи, ахлоқ эса - ҳаё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ироғидир, ёки билим – хазина, ахлоқ э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азилатди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476280"/>
            <a:ext cx="8101080" cy="1008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Қадимги антик давр донишмандларининг фик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El Castillo, Chichén Itzá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4149720"/>
            <a:ext cx="4608360" cy="2708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95280" y="4221000"/>
            <a:ext cx="2664000" cy="23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Chichen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It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Yukatan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Meks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00" y="1268280"/>
            <a:ext cx="8820000" cy="2305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...инсон ҳақида ёқимли таассурот уйғотадига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лекин жамоа, жамият  ҳаётида бурилиш ясайдиг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даражад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муҳим аҳамиятга эга бўлмайдиган, милл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урф-одатларга асосланга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чиройли хатти-ҳаракатлар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ўз ичига олад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76360" y="549360"/>
            <a:ext cx="7343640" cy="576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об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CorcovadofotoRJ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716280"/>
            <a:ext cx="3166920" cy="3141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211640" y="3716280"/>
            <a:ext cx="352908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Isoning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hayk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Rio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de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Janeyro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Brazil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4000" y="1484280"/>
            <a:ext cx="8820000" cy="23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...оила, жамоа, маҳалла-кўй миқёсида аҳамиятли бўлга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ммо жамият ва инсоният ҳаётига сезиларли таъс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ўрсатмайдиган ёқимли инсоний хатти-ҳаракатларнин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мажму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620640"/>
            <a:ext cx="7920000" cy="720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Хулқ...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Colosseum in Rome, Italy - April 200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4076640"/>
            <a:ext cx="4465440" cy="2781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55640" y="4365720"/>
            <a:ext cx="3168720" cy="21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Koliz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Rim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Ital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95280" y="1484280"/>
            <a:ext cx="8748720" cy="2808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...барча одамлар учун бирдек тааллуқ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ҳисобланган, шахс ҳаётидаги ҳамма соҳаларда ўзига 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ўзгаларга нисбатан қўйиладиган маънавий-ижтимо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талаблар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ҳамда эҳтиёжларнинг муносабатлар шаклида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кўринишидан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иборат бўлган, инсонга берилга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ихтиёр эканлигининг хатти-ҳаракатлар жараёнида ич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ирода кучи томонидан оқилона чекланишини тақозо этувч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маънавий ҳодис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476280"/>
            <a:ext cx="8208720" cy="863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</a:t>
            </a:r>
            <a:r>
              <a:rPr b="0" lang="uz-Cyrl-UZ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GreatWallNearBeijingWint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437000"/>
            <a:ext cx="4680000" cy="2421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435640" y="4581360"/>
            <a:ext cx="288144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Buyuk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Xitoy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dev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Xit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1484280"/>
            <a:ext cx="8675640" cy="23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«Билгилким, ҳамма касбларга бирдай тааллуқ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қисқача қоида-адаблар мавжуд, шунингдек, ҳар би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асб учун алоҳида одоб ҳам бор. Агар бар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асблар учу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зарурий одоблар хулосани неч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деб сўрасалар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тўртт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(саккизта) деб айтгил: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620640"/>
            <a:ext cx="8532720" cy="647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Ҳусайн Воиз Кошифий ёзади: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Peru Machu Picchu Sunris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076640"/>
            <a:ext cx="3960720" cy="244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932360" y="4292640"/>
            <a:ext cx="30956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Machu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Pikc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P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87280" y="549360"/>
            <a:ext cx="7956720" cy="9349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ўз касбини ҳаромдан, шубҳали мол-маблағд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пок сақлас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549360"/>
            <a:ext cx="720720" cy="93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1700280"/>
            <a:ext cx="7956720" cy="14414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ризқ-рўзи зарурати учунгина керакли кас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билан шуғуллансин, касбни мол-дунё тўплаш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сарфламас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87280" y="3284640"/>
            <a:ext cx="7956720" cy="10080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сбни обрў олиш, яхши ном чиқаришнинг сабаб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б билс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4508640"/>
            <a:ext cx="7956720" cy="1368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и ҳаром одамлар (амалдорлар, порахўрла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қароқчилар, ўғрилар, қиморбозлар, казз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ўкондорлар)билан муомала қилмасин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1916280"/>
            <a:ext cx="720720" cy="1152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3357720"/>
            <a:ext cx="720720" cy="93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4581360"/>
            <a:ext cx="720720" cy="1224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484280"/>
            <a:ext cx="8748720" cy="23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...одоблилик – хушхулқлиликка, хушхулқлилик – юкс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ийликка айланган каби, ахлоқий тарбия йўл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қўйилмаган жойда муайян шахс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вақти келиб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одобсизликдан – бадхулқлиликка, бадхулқлиликдан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сизликка ўтиши мумки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549360"/>
            <a:ext cx="8209080" cy="792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ий тарбия натижасида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Petra Jordan BW 2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4076640"/>
            <a:ext cx="4390920" cy="2781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71640" y="4437000"/>
            <a:ext cx="302400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Pe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Iordan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3T17:02:26Z</dcterms:created>
  <dc:creator>Talaba</dc:creator>
  <dc:description/>
  <dc:language>en-US</dc:language>
  <cp:lastModifiedBy>USER_CHIP</cp:lastModifiedBy>
  <dcterms:modified xsi:type="dcterms:W3CDTF">2011-12-07T04:03:45Z</dcterms:modified>
  <cp:revision>2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